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CEC-37D1-46E8-9127-B085E261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201-89C9-44E3-ADFC-7F7B58E1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37DE-A143-43BE-85CF-0D8A8AF3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CC6-3DE1-41C3-AF48-B9C27120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DBC5-5638-4C71-B3F2-85A60134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A4B6-5A7D-4933-8396-540CD076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486E-FA2B-4F19-8EBC-FA2BE379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8E34-FA0D-4B70-A24E-ED0A35C3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AEE9-3829-412F-9A48-167D696E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1152-10C3-4839-BADE-6889B383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EEEB-A67D-4C0F-9F07-B314430D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BA8-62F9-4346-ABFA-31D6F369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5633-EFCC-4AD0-9777-73C565AF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E402-CFA5-4E9E-9C8A-0155C442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73E0-73DB-4B10-B991-FD36211E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F801-22FC-4FAF-B8D1-E3BC37C0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86A5-38DC-4575-9423-C7DEF5B2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DFF-A63C-45F9-AB8E-66D1F674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4037-7046-4390-9D5F-19B423D4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645-01E1-4F2B-A94E-4B43AA8E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AD83-D1F3-44C7-8644-5F36C717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4CAC-6BD9-4918-922E-92994B23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DFC-CCCE-4A8D-91C2-86D505B4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70C-E120-42B2-B760-A74EB56C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E863-6AEB-463E-B3A8-F2427DA8B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770F-1238-4E42-BB34-A6FE2DAA98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 Remnant Shall Retur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ter 8, Lesson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ges 95-1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zra 7-10; Neh. 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52560"/>
            <a:ext cx="8229600" cy="6752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486400" y="1676520"/>
            <a:ext cx="137160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90920" y="1600200"/>
            <a:ext cx="2409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 Are Here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029200" y="1752480"/>
            <a:ext cx="380880" cy="152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zra Restores the Wor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zra the Priest – Ezra 7:1-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ngs to the 1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eneration of the priestly line of Aaron –v.1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 versed in the law of Moses – 6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d and supported by King Artaxerxes of Persia – 11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zra Prepares to Depart for Jerusal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f families returning to Jerusalem – 8:1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bsence of Levites – 8:15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taining of Levites – 8:18-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ra calls for prayer and fasting -21-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zed transportation of temple items – 24-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ival at Jerusalem – 8:31-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 and record of temple items -8:33-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zra Confronts The Problem of Mixed Marriag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ain Over The Transgressions -9: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ssing the sin of unfaithfulness – 9:5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pentance and Confession of the People – 10:1-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ntance – the cry for forgiveness 10: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olve to separate from pagan wives – 10:3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cord of the Guilty Leaders -10:13-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ehemiah Rebuilds the Walls of Jerusal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tress and prayer of Nehemiah – Neh.1: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about the wall – 1: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menting over the wall – 1:4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hemiah Goes To Jerusalem – 2:1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tition to the king – 2:1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mission from the king – 2:6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Rise Up And Build”- 2:11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zation For Build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Family is Assigned a Portion of the Wall – 3:1-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Gates Surround The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9:39:09Z</dcterms:created>
  <dc:creator>Terry W. Benton</dc:creator>
  <dc:description/>
  <dc:language>en-US</dc:language>
  <cp:lastModifiedBy>Frank D Vines</cp:lastModifiedBy>
  <dcterms:modified xsi:type="dcterms:W3CDTF">2006-05-24T21:54:20Z</dcterms:modified>
  <cp:revision>4</cp:revision>
  <dc:subject/>
  <dc:title>A Remnant Shall Return</dc:title>
</cp:coreProperties>
</file>